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AFD-B683-4657-9625-F2AFBAB6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856-0318-4161-95B3-468587AF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85F-B926-4E73-BBB9-EADBFD5F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DA8-FE78-4804-BFC4-9E94210C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037-C0AF-4A31-A905-202969D8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44E-5FEA-4A18-A1A1-B5DBB431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5FC-7D4F-4EDC-A0C0-6250D9D1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5CD-405B-48AE-905A-5561D98F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CF2-9509-428C-8D3A-90A8A287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980-A198-4B30-B235-203574D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23B-CD17-4B71-86B1-BD73478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5B8-9370-4F8B-A9C1-BB38A37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D40-7F44-44A0-B0B4-FA241B7B0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FREQUENCY-MATCHED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238880" cy="64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23924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4876920"/>
            <a:ext cx="6781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82560"/>
            <a:ext cx="4953240" cy="61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6782040" cy="21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5320" y="1828800"/>
            <a:ext cx="19047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b7e0"/>
                </a:solidFill>
                <a:latin typeface="Times New Roman"/>
              </a:rPr>
              <a:t>cOR = 4.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2895480"/>
            <a:ext cx="1828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762120"/>
            <a:ext cx="7086600" cy="98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0384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609480"/>
            <a:ext cx="487692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990720" y="1523880"/>
            <a:ext cx="7238880" cy="221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7162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133720" y="1143000"/>
            <a:ext cx="160020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905120" y="685800"/>
            <a:ext cx="4883040" cy="498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403848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723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1440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990720" y="1219320"/>
            <a:ext cx="7162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762120" y="12952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914400" y="5867280"/>
            <a:ext cx="1600200" cy="3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467480" y="5562720"/>
            <a:ext cx="8384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6-27T19:30:17Z</cp:lastPrinted>
  <dcterms:modified xsi:type="dcterms:W3CDTF">2002-07-02T15:16:36Z</dcterms:modified>
  <cp:revision>81</cp:revision>
  <dc:subject/>
  <dc:title>The Art in the State of the Art</dc:title>
</cp:coreProperties>
</file>